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0AD6DA-6592-43C2-88CA-C51EAA30DB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0E87AF-5AB3-4DAF-AB41-200725091C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35E353-1AC4-408F-B75D-B9EA5AE725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278DF9-8E5E-48F1-8550-F596CB6DDB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1005FF-66AF-427F-BCC8-6A9336C5BA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5F1303-9150-4C86-8FCB-72E253B2A4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BA1043-295B-456C-A4AF-2A876F272F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51EE03-F6F6-4420-8805-EBB3327EB5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7DAD4E-86EB-428D-BAAB-15950CF002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CE9825-EC7C-47E7-BEDC-AC9AEA3AD0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176478-6239-44BF-B078-272123E800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3462D-E6CF-467C-B466-461A98FEB9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7135A-7695-48A8-8C4C-07A3F3B058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08170-F1BA-4FCD-BFB0-46A4B802DA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A62F1-D8B3-4FD2-B5B4-5DF7D22F78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F3EB-C72C-489F-8DD1-9C44C32983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70002-7655-436F-8288-E4F7AAC76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044B6-27D7-42AA-8C26-54F943DFA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61AF8-660C-4A0C-88C7-BE85377402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F35A3E-FD78-4F63-B6EC-09B04D49A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DEFA0-5B1E-42CC-B7A8-F87131709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4D2B6-282D-4EE6-8642-058A528BB9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0AFF5-6CC6-471B-A843-554346B47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F26A9F-81F4-49F4-95E5-7F87A4BFF6D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image" Target="../media/image17.jpeg"/><Relationship Id="rId13" Type="http://schemas.openxmlformats.org/officeDocument/2006/relationships/slide" Target="slide7.xml"/><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a:t>
            </a:r>
            <a:r>
              <a:rPr b="0" lang="en-US" sz="1200" spc="-1" strike="noStrike" u="sng">
                <a:solidFill>
                  <a:srgbClr val="ccccff"/>
                </a:solidFill>
                <a:uFillTx/>
                <a:latin typeface="Arial"/>
                <a:hlinkClick r:id="rId11" action="ppaction://hlinksldjump"/>
              </a:rPr>
              <a:t>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2"/>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3"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5:57:19Z</dcterms:modified>
  <cp:revision>68</cp:revision>
  <dc:subject/>
  <dc:title>Profile</dc:title>
</cp:coreProperties>
</file>